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9CF-C70B-4D7F-BFDB-2ED1176B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A99-30DF-4B15-AAD7-85DB9F85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CF7-B538-470B-98AF-72E0B8D0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8BC-A5D7-44DA-AAAC-597FC0F4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1B5-6408-42CD-9DFB-F7754B3E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1A7-2E7F-4FAB-8A94-C6CD65D3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23C-8E21-4DD6-B287-7805BB3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F65-1CA7-458B-A8D5-F7DADC0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2FC-E85A-4448-9841-F298AF8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8F7-AA41-45AF-A286-2A77A0E1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38B-AD08-4F53-8F60-ECA81ED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D8A-EA17-4D0D-8958-8521BF8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63E5-E3DB-434B-ADEC-09FEA3DAB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by Step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Jon needs 250 cookies for a buffet. He will make oatmeal raisin, macaroons, and chocolate chunk cookies. He wants 25% of the cookies to be oatmeal raisin and 15% of the cookies to be macaroons. How many chocolate chunk cookies must Jon bake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7640" y="1600200"/>
            <a:ext cx="721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ad the question carefully and write down what you k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okies –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tmeal raisin –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aroons –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colate Chunk –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70400"/>
            <a:ext cx="801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find out what question you are asked.  You are asked how many chocolate chunk cookies must Jon b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hat percent means out of a hundred, so if you are baking 25% of one kind, and 15% of another and the REST are chocolate chunk, then 60% of the cookies have to be chocolate chu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5392800"/>
            <a:ext cx="855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the question they are ask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60% of 25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set up a cross multiplication based upon the rules you learned in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21680" y="2971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1:05:52Z</dcterms:created>
  <dc:creator>admin</dc:creator>
  <dc:description/>
  <dc:language>en-US</dc:language>
  <cp:lastModifiedBy>admin</cp:lastModifiedBy>
  <dcterms:modified xsi:type="dcterms:W3CDTF">2008-01-22T21:22:43Z</dcterms:modified>
  <cp:revision>3</cp:revision>
  <dc:subject/>
  <dc:title>Question 8</dc:title>
</cp:coreProperties>
</file>